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B2B6-CFF8-4E44-A957-270186F7C3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o browser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formulated for the California High School Exit Exam math stand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o brows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mulated for the California High School Exit Exam math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“stairs” are all through the line and the same siz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tairs” are all through the line and the same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I make a line if the stairs aren’t the same siz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 make a line if the stairs aren’t the same siz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slope of the following lin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lope of the following li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lope positive or negativ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, Read from left to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lope positive or nega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, Read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ast 2 lines had a positive slope, let’s look at slopes with negative sl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2 lines had a positive slope, let’s look at slopes with negative sl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op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still use rise over run, except the “stairs” are underneath the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ill use rise over run, except the “stairs” are underneath the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HSEE Stand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3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HSEE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the slope on a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find where the line goes through (intersects the grid lin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triangle and calculate th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slope on a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ind where the line goes through (intersects the grid l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triangle and calculate th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de if it’s a negative or positiv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ce the triangle on the graph pap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the CAHSEE you can write on the tes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if it’s a negative or positiv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the triangle on the gra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CAHSEE you can write on the t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e is negative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n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e is negativ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is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it’s your tur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the slope on each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make points where the line intersects the gr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calculate th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finish early, then also identify where the line crosses the y-ax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’s your 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slope on each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ake points where the line intersects the 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calculate th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finish early, then also identify where the line crosses the y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engineers build bridg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gineers build bridg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engineers build road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gineers build roa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write 7% as a frac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write 7% as a fr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% as a fraction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than any percent is a part of 10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% as a fraction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n any percent is a part of 1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rade of a road is the same as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is the pictur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f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 f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de of a road is the same as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pi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9722-2EBC-4097-AA0D-A0DFC8F3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2B7E-377B-4052-A4E6-53F4F428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6095-FBF5-465B-9142-93AF4AD3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609A-7D4B-49B3-95E9-73E7C493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F794B-E69F-4CD1-83FE-65514AED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20F8E-FE4C-4147-8EB6-A3CC585B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F387B-6558-4681-9EBC-D55342EB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92F43-A8D9-4AF6-AEAC-A6E89F75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875E6-6861-4DA1-906F-57B8798D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1C984-032C-4889-920C-BF0DA942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23C44-D849-4799-A89F-74214DE4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3DA6-91F5-45BC-A69D-BFE610FE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782C3-AB9C-4D8B-8CDF-D29F5511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2E216-0953-4622-A58F-74ECB76E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C7324-DE14-447F-9934-496801A9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4F400-5AF9-4DCC-B00A-90B5342D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3E310-2343-4A54-8BC6-7DCD7823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394D-086D-4663-A01D-213F68EB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D204-FA8C-4CA3-A803-7D3FBA28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DC73-EED4-423F-80FD-59CF2972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3366-54E7-4149-A814-BBACEA85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54F2-3BCE-49F3-BA33-B80A0A5A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FEC0-AF6D-4C93-AE6E-0B8E1E94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6730-BDA9-49FD-AD93-BE722848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4C5C-F848-46F4-B35B-CBA8097E1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8664-7F4F-4E05-B997-284A596824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to browser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formulated for the California High School Exit Exam math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stairs” are all through the line and the same siz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 flipV="1">
            <a:off x="1447920" y="2133360"/>
            <a:ext cx="4419360" cy="43434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8"/>
          <p:cNvSpPr/>
          <p:nvPr/>
        </p:nvSpPr>
        <p:spPr>
          <a:xfrm rot="5400000">
            <a:off x="2743200" y="4343400"/>
            <a:ext cx="914400" cy="91440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 rot="5400000">
            <a:off x="4572000" y="2514600"/>
            <a:ext cx="914400" cy="914400"/>
          </a:xfrm>
          <a:prstGeom prst="rtTriangl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 rot="5400000">
            <a:off x="1828800" y="5257800"/>
            <a:ext cx="91440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I make a line if the stairs aren’t the same siz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4"/>
          <p:cNvSpPr/>
          <p:nvPr/>
        </p:nvSpPr>
        <p:spPr>
          <a:xfrm flipV="1">
            <a:off x="1447920" y="2133360"/>
            <a:ext cx="4419360" cy="43434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 rot="5400000">
            <a:off x="2286000" y="3962520"/>
            <a:ext cx="914400" cy="167616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 rot="5400000">
            <a:off x="6781320" y="3047760"/>
            <a:ext cx="914400" cy="1676520"/>
          </a:xfrm>
          <a:prstGeom prst="rtTriangl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 rot="5400000">
            <a:off x="5104800" y="3962160"/>
            <a:ext cx="914400" cy="167652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1"/>
          <p:cNvSpPr/>
          <p:nvPr/>
        </p:nvSpPr>
        <p:spPr>
          <a:xfrm flipV="1">
            <a:off x="3733920" y="2971800"/>
            <a:ext cx="5181480" cy="2819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 flipV="1">
            <a:off x="4800600" y="274320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 rot="5400000">
            <a:off x="54864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1055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791320" y="2895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Object 8"/>
          <p:cNvGraphicFramePr/>
          <p:nvPr/>
        </p:nvGraphicFramePr>
        <p:xfrm>
          <a:off x="228600" y="2819520"/>
          <a:ext cx="2590920" cy="17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819520"/>
                    <a:ext cx="259092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 flipV="1">
            <a:off x="4800600" y="274320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 rot="5400000">
            <a:off x="54864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51055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791320" y="2895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Object 8"/>
          <p:cNvGraphicFramePr/>
          <p:nvPr/>
        </p:nvGraphicFramePr>
        <p:xfrm>
          <a:off x="1066680" y="2895480"/>
          <a:ext cx="259092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259092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slope of the following li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Object 21"/>
          <p:cNvGraphicFramePr/>
          <p:nvPr/>
        </p:nvGraphicFramePr>
        <p:xfrm>
          <a:off x="5867280" y="4114800"/>
          <a:ext cx="117324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114800"/>
                    <a:ext cx="117324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Line 5"/>
          <p:cNvSpPr/>
          <p:nvPr/>
        </p:nvSpPr>
        <p:spPr>
          <a:xfrm flipV="1">
            <a:off x="990720" y="2666520"/>
            <a:ext cx="2971800" cy="1676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V="1">
            <a:off x="4648320" y="2590560"/>
            <a:ext cx="1676160" cy="2514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 rot="5400000">
            <a:off x="2095200" y="2857320"/>
            <a:ext cx="762120" cy="129528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203480" y="335268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2133720" y="266688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60948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449568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 rot="5400000">
            <a:off x="4800240" y="3581280"/>
            <a:ext cx="1219320" cy="7621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5257800" y="2819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4572000" y="3809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20"/>
          <p:cNvGraphicFramePr/>
          <p:nvPr/>
        </p:nvGraphicFramePr>
        <p:xfrm>
          <a:off x="6858000" y="2666880"/>
          <a:ext cx="1905120" cy="131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2666880"/>
                    <a:ext cx="1905120" cy="13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23"/>
          <p:cNvGraphicFramePr/>
          <p:nvPr/>
        </p:nvGraphicFramePr>
        <p:xfrm>
          <a:off x="2630520" y="3886200"/>
          <a:ext cx="985680" cy="92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30520" y="3886200"/>
                    <a:ext cx="9856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slope positive or negati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V="1">
            <a:off x="2895480" y="2819520"/>
            <a:ext cx="335304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9" descr="MCj03974460000[1]"/>
          <p:cNvPicPr/>
          <p:nvPr/>
        </p:nvPicPr>
        <p:blipFill>
          <a:blip r:embed="rId1"/>
          <a:stretch/>
        </p:blipFill>
        <p:spPr>
          <a:xfrm>
            <a:off x="2133720" y="3124080"/>
            <a:ext cx="1827000" cy="18399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2"/>
          <p:cNvSpPr/>
          <p:nvPr/>
        </p:nvSpPr>
        <p:spPr>
          <a:xfrm>
            <a:off x="5257800" y="419112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ve, Read from left to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y for yoursel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1676520" y="3048120"/>
          <a:ext cx="127620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12762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7"/>
          <p:cNvGraphicFramePr/>
          <p:nvPr/>
        </p:nvGraphicFramePr>
        <p:xfrm>
          <a:off x="5105520" y="3048120"/>
          <a:ext cx="1276200" cy="11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048120"/>
                    <a:ext cx="12762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17" name="Group 100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18" name="Line 97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98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AutoShape 99"/>
          <p:cNvSpPr/>
          <p:nvPr/>
        </p:nvSpPr>
        <p:spPr>
          <a:xfrm rot="5400000">
            <a:off x="2323440" y="2933640"/>
            <a:ext cx="609840" cy="144756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01"/>
          <p:cNvSpPr/>
          <p:nvPr/>
        </p:nvSpPr>
        <p:spPr>
          <a:xfrm flipV="1">
            <a:off x="1143000" y="2742840"/>
            <a:ext cx="3809880" cy="152388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" name="Object 103"/>
          <p:cNvGraphicFramePr/>
          <p:nvPr/>
        </p:nvGraphicFramePr>
        <p:xfrm>
          <a:off x="6858000" y="2533680"/>
          <a:ext cx="152388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10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533680"/>
                    <a:ext cx="152388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25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26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AutoShape 88"/>
          <p:cNvSpPr/>
          <p:nvPr/>
        </p:nvSpPr>
        <p:spPr>
          <a:xfrm rot="5400000">
            <a:off x="2514240" y="1752480"/>
            <a:ext cx="1600200" cy="281916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89"/>
          <p:cNvSpPr/>
          <p:nvPr/>
        </p:nvSpPr>
        <p:spPr>
          <a:xfrm flipV="1">
            <a:off x="1219320" y="2133720"/>
            <a:ext cx="3962160" cy="220968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Object 90"/>
          <p:cNvGraphicFramePr/>
          <p:nvPr/>
        </p:nvGraphicFramePr>
        <p:xfrm>
          <a:off x="6858000" y="2533680"/>
          <a:ext cx="152388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533680"/>
                    <a:ext cx="152388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st 2 lines had a positive slope, let’s look at slopes with negative sl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2895480" y="3429000"/>
            <a:ext cx="39625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MCj03974460000[1]"/>
          <p:cNvPicPr/>
          <p:nvPr/>
        </p:nvPicPr>
        <p:blipFill>
          <a:blip r:embed="rId1"/>
          <a:stretch/>
        </p:blipFill>
        <p:spPr>
          <a:xfrm rot="5124600">
            <a:off x="3358440" y="2431800"/>
            <a:ext cx="182736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Slope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till use rise over run, except the “stairs” are underneath the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2438280" y="3048120"/>
            <a:ext cx="39625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3352680" y="3581280"/>
            <a:ext cx="1676520" cy="9907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880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2668680" y="38098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Object 12"/>
          <p:cNvGraphicFramePr/>
          <p:nvPr/>
        </p:nvGraphicFramePr>
        <p:xfrm>
          <a:off x="6033960" y="2819520"/>
          <a:ext cx="180036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960" y="2819520"/>
                    <a:ext cx="180036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y for yoursel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1579680" y="3048120"/>
          <a:ext cx="146988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9680" y="3048120"/>
                    <a:ext cx="146988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4989600" y="3048120"/>
          <a:ext cx="1508040" cy="11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9600" y="3048120"/>
                    <a:ext cx="150804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51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52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AutoShape 88"/>
          <p:cNvSpPr/>
          <p:nvPr/>
        </p:nvSpPr>
        <p:spPr>
          <a:xfrm flipV="1" rot="16200000">
            <a:off x="3771360" y="2705040"/>
            <a:ext cx="533520" cy="289548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89"/>
          <p:cNvSpPr/>
          <p:nvPr/>
        </p:nvSpPr>
        <p:spPr>
          <a:xfrm>
            <a:off x="1600200" y="3733920"/>
            <a:ext cx="4343400" cy="76176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Object 90"/>
          <p:cNvGraphicFramePr/>
          <p:nvPr/>
        </p:nvGraphicFramePr>
        <p:xfrm>
          <a:off x="6858000" y="2627280"/>
          <a:ext cx="1523880" cy="12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627280"/>
                    <a:ext cx="152388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59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60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AutoShape 88"/>
          <p:cNvSpPr/>
          <p:nvPr/>
        </p:nvSpPr>
        <p:spPr>
          <a:xfrm flipV="1" rot="16200000">
            <a:off x="2018880" y="1485720"/>
            <a:ext cx="2590560" cy="434340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9"/>
          <p:cNvSpPr/>
          <p:nvPr/>
        </p:nvSpPr>
        <p:spPr>
          <a:xfrm>
            <a:off x="685800" y="2057400"/>
            <a:ext cx="5105520" cy="304812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Object 90"/>
          <p:cNvGraphicFramePr/>
          <p:nvPr/>
        </p:nvGraphicFramePr>
        <p:xfrm>
          <a:off x="6858000" y="2643120"/>
          <a:ext cx="1523880" cy="12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643120"/>
                    <a:ext cx="152388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AHSEE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914400" y="2133720"/>
            <a:ext cx="739152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slope on a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find where the line goes through (intersects the grid li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a triangle and calculate the 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73" name="Group 85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74" name="Line 86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Line 89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Oval 97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98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de if it’s a negative or positive 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e the triangle on the graph 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CAHSEE you can write on the tes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83" name="Group 88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84" name="Line 89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90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6" name="Line 91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92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93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94"/>
          <p:cNvSpPr/>
          <p:nvPr/>
        </p:nvSpPr>
        <p:spPr>
          <a:xfrm>
            <a:off x="1447920" y="2895480"/>
            <a:ext cx="0" cy="45720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e is negative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is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94" name="Group 88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95" name="Line 89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90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Line 91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92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93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94"/>
          <p:cNvSpPr/>
          <p:nvPr/>
        </p:nvSpPr>
        <p:spPr>
          <a:xfrm>
            <a:off x="1447920" y="2895480"/>
            <a:ext cx="0" cy="45720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1" name="Object 97"/>
          <p:cNvGraphicFramePr/>
          <p:nvPr/>
        </p:nvGraphicFramePr>
        <p:xfrm>
          <a:off x="5181480" y="2133720"/>
          <a:ext cx="2057400" cy="14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9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133720"/>
                    <a:ext cx="205740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Line 98"/>
          <p:cNvSpPr/>
          <p:nvPr/>
        </p:nvSpPr>
        <p:spPr>
          <a:xfrm>
            <a:off x="1447920" y="3352680"/>
            <a:ext cx="1066680" cy="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4" name="Object 101"/>
          <p:cNvGraphicFramePr/>
          <p:nvPr/>
        </p:nvGraphicFramePr>
        <p:xfrm>
          <a:off x="5105520" y="4724280"/>
          <a:ext cx="1484280" cy="12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1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4724280"/>
                    <a:ext cx="148428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w it’s your tur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the slope on each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make points where the line intersects the gr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calculate the sl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finish early, then also identify where the line crosses the y-ax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eleased Question from CAHSE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9" name="Picture 10" descr=""/>
          <p:cNvPicPr/>
          <p:nvPr/>
        </p:nvPicPr>
        <p:blipFill>
          <a:blip r:embed="rId1">
            <a:alphaModFix amt="85000"/>
          </a:blip>
          <a:stretch/>
        </p:blipFill>
        <p:spPr>
          <a:xfrm>
            <a:off x="457200" y="2035080"/>
            <a:ext cx="4038480" cy="36244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1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0384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w do engineers build bridges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Picture 5" descr="goldengate_bridge_1"/>
          <p:cNvPicPr/>
          <p:nvPr/>
        </p:nvPicPr>
        <p:blipFill>
          <a:blip r:embed="rId1"/>
          <a:stretch/>
        </p:blipFill>
        <p:spPr>
          <a:xfrm>
            <a:off x="2057400" y="2176560"/>
            <a:ext cx="464832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eleased Question from CAHSE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422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13" name="Line 6"/>
          <p:cNvSpPr/>
          <p:nvPr/>
        </p:nvSpPr>
        <p:spPr>
          <a:xfrm flipV="1">
            <a:off x="251460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2">
            <a:alphaModFix amt="85000"/>
          </a:blip>
          <a:stretch/>
        </p:blipFill>
        <p:spPr>
          <a:xfrm>
            <a:off x="457200" y="2035080"/>
            <a:ext cx="4038480" cy="362448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civil_engi picture"/>
          <p:cNvPicPr/>
          <p:nvPr/>
        </p:nvPicPr>
        <p:blipFill>
          <a:blip r:embed="rId1"/>
          <a:stretch/>
        </p:blipFill>
        <p:spPr>
          <a:xfrm>
            <a:off x="1905120" y="901800"/>
            <a:ext cx="563868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do engineers build road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Picture 5" descr="grade sign"/>
          <p:cNvPicPr/>
          <p:nvPr/>
        </p:nvPicPr>
        <p:blipFill>
          <a:blip r:embed="rId1"/>
          <a:stretch/>
        </p:blipFill>
        <p:spPr>
          <a:xfrm>
            <a:off x="1574640" y="1600200"/>
            <a:ext cx="52070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w can we write 7% as a fraction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Picture 5" descr="bicycle grade sign"/>
          <p:cNvPicPr/>
          <p:nvPr/>
        </p:nvPicPr>
        <p:blipFill>
          <a:blip r:embed="rId1"/>
          <a:stretch/>
        </p:blipFill>
        <p:spPr>
          <a:xfrm>
            <a:off x="2362320" y="219060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7% as a fraction?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an any percent is a part of 1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743200" y="2514600"/>
          <a:ext cx="275580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14600"/>
                    <a:ext cx="27558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 grade of a road is the same as slop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is the pictu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1828800" y="3581280"/>
            <a:ext cx="6324480" cy="7621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6858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276720" y="4648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7" descr="j0212957"/>
          <p:cNvPicPr/>
          <p:nvPr/>
        </p:nvPicPr>
        <p:blipFill>
          <a:blip r:embed="rId1"/>
          <a:stretch/>
        </p:blipFill>
        <p:spPr>
          <a:xfrm rot="451800">
            <a:off x="6248160" y="3048120"/>
            <a:ext cx="183024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00509 L -0.525 -0.07268 E">
                                      <p:cBhvr>
                                        <p:cTn id="16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4"/>
          <p:cNvSpPr/>
          <p:nvPr/>
        </p:nvSpPr>
        <p:spPr>
          <a:xfrm flipV="1">
            <a:off x="2895480" y="281952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0481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962520" y="2819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23:36:47Z</dcterms:created>
  <dc:creator>lnussdor</dc:creator>
  <dc:description/>
  <dc:language>en-US</dc:language>
  <cp:lastModifiedBy>RomaK</cp:lastModifiedBy>
  <dcterms:modified xsi:type="dcterms:W3CDTF">2015-09-04T09:21:15Z</dcterms:modified>
  <cp:revision>17</cp:revision>
  <dc:subject/>
  <dc:title>Slope &amp; Y-intercept</dc:title>
</cp:coreProperties>
</file>